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F894-092A-4F5F-888C-B64899D94D2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BA74-0549-4862-BD79-BA169E7441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A3E-6298-4216-8A10-7D835EB0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113-EF7D-4415-94F5-F6B52B69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FFC-B758-449D-8715-9B43D0EA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C20-5FBC-4D92-B086-174D314F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3E4-9042-4058-807B-9A463F7E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F75-F2C5-470F-A3F2-23F3DD1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56E-F1A0-4A0F-9EF1-12A3FE0B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295-5A75-4A26-818D-FAFF4415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1F9-0F8B-4AC2-941B-A23D9D3E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5C1-746E-4830-990F-7F4AE18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DB5-CA6A-4E7C-9F61-D87EB67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D43-FC85-4824-BAA9-C2DFB41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C43D-50AB-443B-A9BE-E13C9D7EED7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Urban Zon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33" descr="trans_sect"/>
          <p:cNvPicPr/>
          <p:nvPr/>
        </p:nvPicPr>
        <p:blipFill>
          <a:blip r:embed="rId1"/>
          <a:stretch/>
        </p:blipFill>
        <p:spPr>
          <a:xfrm>
            <a:off x="0" y="1357200"/>
            <a:ext cx="9147240" cy="5500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27"/>
          <p:cNvSpPr/>
          <p:nvPr/>
        </p:nvSpPr>
        <p:spPr>
          <a:xfrm>
            <a:off x="4263480" y="1857240"/>
            <a:ext cx="529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B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028"/>
          <p:cNvSpPr/>
          <p:nvPr/>
        </p:nvSpPr>
        <p:spPr>
          <a:xfrm>
            <a:off x="2680200" y="1714680"/>
            <a:ext cx="669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030"/>
          <p:cNvSpPr/>
          <p:nvPr/>
        </p:nvSpPr>
        <p:spPr>
          <a:xfrm>
            <a:off x="219240" y="1714680"/>
            <a:ext cx="8618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ut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burb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363320" y="1714680"/>
            <a:ext cx="10022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uburb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Urban Line Trans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5752080" y="1714680"/>
            <a:ext cx="669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6792480" y="1714680"/>
            <a:ext cx="10022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uburb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30"/>
          <p:cNvSpPr/>
          <p:nvPr/>
        </p:nvSpPr>
        <p:spPr>
          <a:xfrm>
            <a:off x="8077320" y="1714680"/>
            <a:ext cx="8618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ut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burb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rans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rawing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ity, you can quite easily identify the different zones, in much the same way as Burgess and the other theorists di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ects help you to identify and classify zones, enabling you to compare the characteristics of each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identify the CBD, the older terraced housing, and as you move further from the city centre the newer housing of the subur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CB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cal point of the city, with the highest land pri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BD is where shops will locate as they know it is the most accessible point for the people of the c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gh land prices mean that buildings tend to grow upwards, and this is why CBD's often have tall skyscrapers, particularly in American c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in functions of the CBD will include retail, entertainment, financial services and other professional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Inn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Burgess's zone of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inner city in the 19th Century would have been the centre of industry for most citi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w paid workers would have lived in the many rows of terraced houses that were built beside the factori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wadays, although the factories have gone, many of the terraced houses rema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Inner city of many urban areas has undergone great chang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Inn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covered in detail in a later section. However once the industry moved out, the inner cities became areas in need of redevelop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plan was to build tall blocks of flats to replace the terra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occurred in the 1960's and 1970'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1990's Inner City redevelopment has taken the form of gentrification schemes aimed at rejuvenating the area, producing more of a community spirit, whilst trying to keep some of the old architec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Subu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uburban houses were built in the period between the two World Wars, during the first half of the 20th centu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tes full of detached and semi-detached houses grew rapidly as public and private transport improvements allowed people to live further away from their place of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1960's and 1970's these areas also continued to g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Rural-Urban Fri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ural-urban fringe is where most of the post war housing has been buil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in estates of mainly detached and semi-detached houses, the emphasis has often been on making the houses as spacious as possi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ain these housing developments were only possible thanks to the fact that most families now own at least one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10:26Z</dcterms:created>
  <dc:creator>Dell_02</dc:creator>
  <dc:description/>
  <dc:language>en-US</dc:language>
  <cp:lastModifiedBy>Dell_02</cp:lastModifiedBy>
  <dcterms:modified xsi:type="dcterms:W3CDTF">2011-01-26T01:17:23Z</dcterms:modified>
  <cp:revision>1</cp:revision>
  <dc:subject/>
  <dc:title>Urban Zoning</dc:title>
</cp:coreProperties>
</file>